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ADD-D3DE-4B86-8BB0-A2D776A1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4B1-5FF6-4D7D-80BA-AA28DF66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678-8307-4828-BEF5-6615E26A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502-E260-4C25-9B77-41E03494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BBC-5410-4130-B0EB-087B14E8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37E-61F4-48D4-89A3-C6986C49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6EE-0C74-45A6-8D98-BA81F681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48C-A7BB-4511-893B-BC7F397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D02-5C3F-4764-A502-010FBDEF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B5D-92DA-48B3-BD5D-90D6131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3D0-7410-491A-8866-D4FEA9D9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0DC-6C84-41E8-80FD-D01977AD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9829-FF4B-457C-9664-C10EBDD36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8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第三节  金融期货（远期）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1071720"/>
            <a:ext cx="8534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远期价格与期货价格的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基本假设与符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基本假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没有交易费用和税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市场参与者可以用相同的无风险利率借入与贷出资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合约无信用风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允许现货卖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出现套利机会，投资者将参与套利活动，使套利机会消失。我们计算的理论价格是在无套利机会下的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均衡价格（理论价格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期货合约保证金帐户支付同样的无风险利率。这意味着投资者可以无成本地取得</a:t>
            </a:r>
            <a:r>
              <a:rPr b="0" lang="zh-CN" sz="2400" spc="-1" strike="noStrike">
                <a:solidFill>
                  <a:srgbClr val="000099"/>
                </a:solidFill>
                <a:latin typeface="华文楷体"/>
                <a:ea typeface="华文楷体"/>
              </a:rPr>
              <a:t>远期与期货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多头或空头地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296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560" y="1357200"/>
            <a:ext cx="84582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一般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现金收益的现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黄金、白银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值为负）， 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单位标的资产， 利率为无风险利率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本金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负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S-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-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                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142848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①式为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-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K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          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228240"/>
            <a:ext cx="8429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②不成立时，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按无风险利率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借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，期限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购买一单位的标的资产，同时卖出一份该资产的远期合约，交割价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还本付息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本利收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的资产交割的收入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可实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lt;(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卖空标的资产，将所得收入以无风险利率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投资，期限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同时买进一份该资产的远期合约，交割价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套利者可得到本息收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付现金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换得一单位标的资产，归还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收益给原所有者，实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F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480" y="1000080"/>
            <a:ext cx="862956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无风险年利率分别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而一种十年期债券现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，该债券一年期远期合约的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，该债券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后都将收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的利息，且第二次付息日在远期合约交割日之前，求远期合约多头的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黄金的现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0$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盎司，其存储成本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$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盎司，年底支付，无风险年利率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一年期黄金的期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43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）支付已知收益率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357200"/>
            <a:ext cx="8458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一般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证券，并且所有收益再投资于该证券。其中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现货资产按连续复利计算的已知收益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）支付已知收益率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285560"/>
            <a:ext cx="86248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上式为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(r -q)(T-t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成立时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 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 ) 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-q)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&lt;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 –q)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-q)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套利使期货市场价格与理论价格一致，市场恢复均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143000"/>
            <a:ext cx="853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5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现在的点数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该指数所含股票的红利收益率预计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无风险年利率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期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5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期货的市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求该期货合约多头的价值和期货的理论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848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六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外汇远期与期货的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560" y="1219320"/>
            <a:ext cx="84582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外汇远期与期货的定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以本币表示的一单位外汇的即期价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远期合约中约定的以本币表示的一单位外汇的交割价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汇收益率为发行国连续复利的无风险利率，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外汇合约多头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外汇，并且所有收益再投资于该外汇。其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现货资产按连续复利计算的已知收益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=0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得：利率平价公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其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利率协议的定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外汇综合协议的定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484360" y="4292640"/>
                <a:ext cx="3505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2700360" y="5157720"/>
                <a:ext cx="243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现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071360"/>
            <a:ext cx="86439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即期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前面的定价公式，当标的物无收益，或已知现金收益较小，或已知收益率较小时，期货价格大于即期现货价格；反之，期货价格小于即期现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(r -q)(T-t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收敛于标的物现货价格；这是由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套利行为决定的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现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期货价格与预期未来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E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期货价格与未来实际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未来实际现货价格的关系，就象期望值与实际值的关系一样，完全相等的概率极小，往往略大于或小于期货合约到期时的实际现货价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有关符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999720"/>
            <a:ext cx="84582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与期货合约的到期时间，单位为：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在时间，单位为：年。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远期与期货合约中以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为单位表示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剩余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标的资产在时间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价格；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标的资产在时间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的价格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合约中的交割价格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合约多头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的资产的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期理论价格或期货理论价格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分别称为远期价格或期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: T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到期的以连续复利计算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无风险利率（年利率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（二）远期价格与期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2193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os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明，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恒定，到期日不变时，交割日相同的远期价格与期货价格应相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法预测时，远期价格与期货价格不等。它们之间的关系取决于标的资产与利率的相关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当标的资产与利率呈正相关时，期货价格高于远期价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当标的资产与利率呈负相关时，期货价格小于远期价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合约有效期的长短也决定了远期价格与期货价格的差异程度。但有效期只有数月时，两者差异较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税收、交易费用、保证金的处理方式、违约风险、流动性等都会影响远期价格与期货价格的差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多数情况下，我们认为远期价格与期货价格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476280"/>
            <a:ext cx="8643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金融期货（远期）的定价原理与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无套利定价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原理：在均衡的金融市场上，不存在套利机会。这意味着：两个具有相同盈亏的证券组合，应具有相同的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方法就是应用无套利原理对资产进行定价的方法。这种方法的基本做法是：构建两个投资组合，若其终值相等，则现值一定相等。根据这种相等关系，构造包含相应衍生品的方程式，求衍生品的理论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4803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）标的资产的分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197000"/>
            <a:ext cx="8462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无收益资产：指期货合约到期前，标的资产不产生现金流的资产，如贴现债券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支付已知现金收益的资产：指期货合约到期前，标的资产产生完全可预测的现金流的资产，如附息债券和支付已知现金红利的股票、黄金、白银等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支付已知收益率的资产：指期货合约到期前，标的资产产生与该资产现货价格成一定比率的资产，如外汇、股价指数、远期利率协议、远期外汇综合协议等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228600"/>
            <a:ext cx="864396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（</a:t>
            </a: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K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购买一单位标的资产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单位标的资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-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                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30492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①式为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K= 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          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②不成立时，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按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借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购买一单位的标的资产，同时卖出一份该资产的远期合约，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lt;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卖空标的资产，将所得收入以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投资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同时买进一份该资产的远期合约，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F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使期货市场价格与理论价格一致，市场恢复均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一标的证券为一年期贴现债券、剩余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远期合约多头，其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$960, 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该债券的现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$94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远期合约多头的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600200" y="3860640"/>
                <a:ext cx="59436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3:40:33Z</dcterms:created>
  <dc:creator>fang</dc:creator>
  <dc:description/>
  <dc:language>en-US</dc:language>
  <cp:lastModifiedBy>Yitan Wang</cp:lastModifiedBy>
  <dcterms:modified xsi:type="dcterms:W3CDTF">2024-03-18T02:57:58Z</dcterms:modified>
  <cp:revision>347</cp:revision>
  <dc:subject/>
  <dc:title>没有幻灯片标题</dc:title>
</cp:coreProperties>
</file>